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F51-2EEA-4CAC-BC3F-FEBFAE6E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5B2-32F4-442E-AB56-C445C3A9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0B82-247C-42A1-A006-A4190CFD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072-BD42-477F-B917-242BEA35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827A-8B2C-4E1E-9A88-066017BB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0DCE-B1FA-434D-A201-708108EE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FA7D-1788-40AA-8A66-0D2C24C5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B4FC-B779-4677-B98E-3AE0BF83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D6E2-D23C-482A-A54B-F8379C78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A429-8D18-4C07-A8B2-FCE1B3D9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4D35-93F9-47AA-8338-BD69F17C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389C-6186-4CD9-87FE-1132E03A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59EC-C9C1-4D4F-98F0-D3F90D0E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CB0E-E7BA-472C-AF77-61B379F9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E1DF-491C-4734-BDF2-0CAE9CD3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332E-2A2A-490E-BFC4-39698A4C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5862-2819-4E60-9490-D20E1D91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98F-0FA6-4D3E-8D75-606D63A2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8B0-532D-4412-B526-1FE34CD4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244-7F5E-4FAA-873A-22F02629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9F8-6E67-419D-99F1-82E7C340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3A46-DA8F-4423-991B-EB6F8E37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9D8-D148-475E-B9AC-590351FE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0457-2E0E-4BC9-A384-4EDCFF03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9937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任意多边形 39938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任意多边形 39939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任意多边形 39940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圆角矩形 3994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26E1-7107-4F84-9835-3754BAFA28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40961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任意多边形 40962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任意多边形 40963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任意多边形 40964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圆角矩形 4096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466E-593A-4E0B-A602-CBBB868060F6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六章   保险投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实物资产投资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最主要的是不动产投资，也包括一些机械设备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我国保险投资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01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年《保险资金运用管理办法》明确规定保险资金运用限于下列形式： （一）银行存款； （二）买卖债券、股票、证券投资基金份额等有价证券； （三）投资不动产； （四）投资股权； （五）国务院规定的其他资金运用形式。 保险资金从事境外投资的，应当符合中国保监会、中国人民银行和国家外汇管理局的相关规定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第四节 保险投资主体模式的选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公司内设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委托专业的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专业化保险资产管理公司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保险投资风险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政府对保险业投资风险的监管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对保险投资范围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对保险投资比例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对投资资产与负债的配比关系的限制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对金融衍生工具的使用限制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公司对投资风险的管理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制定合理的投资策略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资产分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投资组合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资产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析保险投资的资金来源和性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一般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特殊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我国保险投资的主要方式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监管机构应从哪些方面加强对保险公司投资风险的管理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应该如何制定保险投资策略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何选择证券组合可以降低非系统性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利率免疫技术？保险公司如何运用利率免疫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术防范债券投资的利率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投资的资金来源与性质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保险投资资金的来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自有资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本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积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负债资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寿险未到期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赔款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储金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存入分保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责任准备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资金的性质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负债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稳定性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性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保险投资的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投资的一般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收益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流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的特殊条件约束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称性条件约束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替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转移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衡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第三节   保险投资的形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金融资产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债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债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贷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股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cp:keywords/>
  <dc:language>en-US</dc:language>
  <cp:lastModifiedBy>苏菲的小猫</cp:lastModifiedBy>
  <dcterms:modified xsi:type="dcterms:W3CDTF">2020-05-25T05:50:13Z</dcterms:modified>
  <cp:revision>23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4</vt:lpwstr>
  </property>
</Properties>
</file>